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D0B-C49D-4910-8D64-F0A3005D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CBC-BAF5-4066-83D3-477A1CCF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ADF-C4D3-4652-BF8F-6A87B86B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C39-CE8A-4F7A-B8AA-09F83857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EAD-31DE-4C02-BE14-03A4D1CB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FB2-10CC-41F7-8195-C5E966FD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8CF-AFDE-460F-A797-0CB9C31A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197-1CDC-4469-AEF6-6CC82B2F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613-9F37-4D38-B94F-6A577ECB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641-0EDD-44FB-A73B-238F3D9F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89B-DA65-4F62-B970-7FF65311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903-FA65-4DFB-9A89-3EFDD817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EFC5-B616-411F-AB67-7AB64F8541B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4437000"/>
            <a:ext cx="5486400" cy="242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200" spc="-1" strike="noStrike">
                <a:solidFill>
                  <a:srgbClr val="000000"/>
                </a:solidFill>
                <a:latin typeface="Tahoma"/>
                <a:cs typeface="Ruqah2 Normal"/>
              </a:rPr>
              <a:t>لتقم صلات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840" y="5524560"/>
            <a:ext cx="9074160" cy="142524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73720"/>
            <a:ext cx="914400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ربِّ إليكَ صرختُ، أسْرِعْ إليَّ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221440"/>
            <a:ext cx="801360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صِخْ لصوتي حينَ أصرُخُ إليكَ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95640" y="2060640"/>
            <a:ext cx="4648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تُقَمْ صلاتي كالبخورِ أمامَك ورفعُ كفيَّ كتقدمةِ الـمساء. 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5415120"/>
            <a:ext cx="8137440" cy="14986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68324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68324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4370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جعلْ يا ربِّ حارساً لفمي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5148360"/>
            <a:ext cx="60022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قيباً على بابِ شفتيَّ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95640" y="2060640"/>
            <a:ext cx="4648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تُقَمْ صلاتي كالبخورِ أمامَك ورفعُ كفيَّ كتقدمةِ الـمساء. 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415120"/>
            <a:ext cx="9144000" cy="14986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275440"/>
            <a:ext cx="89917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ا تُمل قلبي إلى أمر السوء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5516640"/>
            <a:ext cx="8991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الانغماس في جرائم النفاق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707080"/>
            <a:ext cx="8991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 الرجال الفاعلين الإثم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491080"/>
            <a:ext cx="9144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اشى لي أن آكل من مستلذاتهم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5:29Z</dcterms:created>
  <dc:creator>Charbel Azar</dc:creator>
  <dc:description/>
  <dc:language>en-US</dc:language>
  <cp:lastModifiedBy>-</cp:lastModifiedBy>
  <dcterms:modified xsi:type="dcterms:W3CDTF">2002-12-21T12:03:15Z</dcterms:modified>
  <cp:revision>6</cp:revision>
  <dc:subject/>
  <dc:title>PowerPoint Presentation</dc:title>
</cp:coreProperties>
</file>